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766-77F1-4C35-8F98-75585A43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660-2FBD-4A21-BD28-6ADEAE8A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344-989D-4E6C-80A2-6E0452A9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D13-D745-4FD1-B33D-6787C070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100-3AC6-4E92-AAC5-A350BF0E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782-1BDF-4944-8B00-F4C538B1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FC1-2256-4F75-9226-2B77C0AC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08A-3811-4B82-AF9C-4E8D4578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4E4-F9EF-4021-83F4-9986210A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C6D7-762D-4E2F-BE48-80479781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C6D-BB4B-44A7-BA51-6E22A967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25B-8BB7-4D32-87C7-F2F502CF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B8A5-231F-41D0-AE3B-D0E1900A5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3 de abril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49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para el examen del capitulo 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52280" y="220968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y &amp; if the statement is true writ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; if it is false writ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l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nd correct the bold word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utbo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popular en los países hisp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jugadores de béisbol son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utbol american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ambié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popular en el mundo hisp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jugadores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utbo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on de San Pedro de Macorís en la Republica Dominic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jugadores de futbol pueden tocar el balón co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cabeza y con el pi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I- 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Copia y comple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un partido de béisbol hay nuev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tiemp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entrad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espectadores van…a ver un partido de fut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a la canch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al estadi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a la porter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béisbol los jugadores…de una base a o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corr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atrapa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lan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futbol los jugadores lanzan el balón c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 el ba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la man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el 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basquetbol los jugadores meten el balón 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el ce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la porterí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el plat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béisbol los jugadores atrapan la pelota c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una re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un gua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un 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04920" y="75960"/>
            <a:ext cx="853416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I-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Conjuga los siguientes verbos en forma de B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nzar (to beg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r (to be able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rzar (to have lun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ir (to pre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r (to pl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ezar (to beg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olver (to retu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ñar (to dr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 para el EXAMEN del Capitulo 1 el MARTES, 9 DE ABR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book: p. 2-29; p.34-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fu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, O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eis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aloncesto,basque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deportes en el mundo hisp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pa Mund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Anat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5:30:24Z</dcterms:created>
  <dc:creator>Helen Zumaeta</dc:creator>
  <dc:description/>
  <dc:language>en-US</dc:language>
  <cp:lastModifiedBy>Helen Zumaeta</cp:lastModifiedBy>
  <dcterms:modified xsi:type="dcterms:W3CDTF">2013-04-03T19:31:16Z</dcterms:modified>
  <cp:revision>21</cp:revision>
  <dc:subject/>
  <dc:title>Me llamo _________ Clase 7il la fecha es el 26 de octubre del 2012</dc:title>
</cp:coreProperties>
</file>